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2.pct" ContentType="image/x-pict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1.pct" ContentType="image/x-pict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09C-BD89-4404-828C-C056147F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125-7F5B-4D06-9BD7-9AA53E91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0A7-7941-4CB7-9077-7A026DCA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45F-9BDD-45C3-A602-50CEE9E4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827-C036-4465-B07F-FAB74EC0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933-8F5E-45E2-8F8A-BFA92004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D1F-394E-4A9A-BCA8-99DD2B1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E20-046A-47F9-9BD6-062D0E93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0CA-72D3-4071-9881-464DB80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0C3-987B-4475-8D6E-2498907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85A-F0D7-4DDA-8D2B-66D8EDCD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D0A-702B-460B-BFBE-C9B0216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FC9-137E-4241-BAFC-941966083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cs.berkeley.edu/Pubs/TechRpts/2006/EECS-2006-104.html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370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81080"/>
            <a:ext cx="9524880" cy="426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914400"/>
            <a:ext cx="846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8839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680" y="533520"/>
            <a:ext cx="8928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05040"/>
            <a:ext cx="84981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40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369720"/>
            <a:ext cx="8255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99480" cy="518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30492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4684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1320" y="5335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Insertions/Dele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2360" y="1405080"/>
            <a:ext cx="81025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0492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Indels with gri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990720"/>
            <a:ext cx="60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40040" y="1754280"/>
            <a:ext cx="525780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762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(un)popular popup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comparative genomic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view the data with GBrowse_s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160" y="1252440"/>
            <a:ext cx="8800920" cy="435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335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gene an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0" y="687240"/>
            <a:ext cx="901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50920" y="351000"/>
            <a:ext cx="68454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6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8560" y="299880"/>
            <a:ext cx="5550120" cy="626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3809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19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60199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304920"/>
            <a:ext cx="30456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00" y="9907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76440" y="2859120"/>
            <a:ext cx="599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61312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9720" y="3200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brigg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040" y="52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rema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819520"/>
            <a:ext cx="304920" cy="1218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724280"/>
            <a:ext cx="304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518160" cy="374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43920" y="9144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 of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7720" y="1981080"/>
            <a:ext cx="178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46840" cy="41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21680" y="9907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tive gene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98200" y="6858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ing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3938760"/>
            <a:ext cx="6485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Genome Align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666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276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5720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6280" y="253044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repe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Masker [97] and Tandem Repeats Finder, nmerge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1760" y="312408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orthologous reg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RCATOR, orthocluster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3560" y="3886200"/>
            <a:ext cx="23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otide-level al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CAN, MAVID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4200" y="457200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processing (GE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038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9320" y="3976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05320" y="3262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6840" y="32004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280" y="5105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8280" y="205740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genomic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” sequence alignment view (defin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image configuration (probab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mage rendering?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93720" y="617400"/>
            <a:ext cx="757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Sta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Bas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 Genome Sequenc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berkeley.edu/Pubs/TechRpts/2006/EECS-2006-1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488200">
            <a:off x="6895800" y="1507680"/>
            <a:ext cx="633240" cy="212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44956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467480" y="5700600"/>
            <a:ext cx="13147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568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6072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3272040" cy="8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flipH="1">
            <a:off x="1676520" y="3429000"/>
            <a:ext cx="15681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1800" y="838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0800" y="152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371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3124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038480" y="5334120"/>
            <a:ext cx="46483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487692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 UCSC-style conservation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838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Browse_sy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750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Generic Genome Browser Package (GBrow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al multiple sequence alignment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mposes sequence alignment data on genes and other  sequen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wo or more species to a central reference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629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62840" y="685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-lik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543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5334120"/>
            <a:ext cx="1295280" cy="685800"/>
          </a:xfrm>
          <a:prstGeom prst="flowChartMagneticDisk">
            <a:avLst/>
          </a:prstGeom>
          <a:solidFill>
            <a:srgbClr val="e30507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4800600"/>
            <a:ext cx="144792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952880"/>
            <a:ext cx="1143000" cy="1143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4572000"/>
            <a:ext cx="129528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520" y="6095880"/>
            <a:ext cx="1295280" cy="685800"/>
          </a:xfrm>
          <a:prstGeom prst="flowChartMagneticDisk">
            <a:avLst/>
          </a:prstGeom>
          <a:solidFill>
            <a:srgbClr val="1537e3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2800" y="5029200"/>
            <a:ext cx="152388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160" y="327672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97520" y="518148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15840"/>
            <a:ext cx="312444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1240" y="5257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7120" y="3429000"/>
            <a:ext cx="17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053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1720" y="358128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16400">
            <a:off x="2220840" y="3211200"/>
            <a:ext cx="587160" cy="1524240"/>
          </a:xfrm>
          <a:prstGeom prst="upDownArrow">
            <a:avLst>
              <a:gd name="adj1" fmla="val 50000"/>
              <a:gd name="adj2" fmla="val 516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86000"/>
            <a:ext cx="3504960" cy="9144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1447920"/>
            <a:ext cx="533520" cy="685800"/>
          </a:xfrm>
          <a:prstGeom prst="upArrow">
            <a:avLst>
              <a:gd name="adj1" fmla="val 41667"/>
              <a:gd name="adj2" fmla="val 5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8483600">
            <a:off x="6716520" y="3211560"/>
            <a:ext cx="587160" cy="1523880"/>
          </a:xfrm>
          <a:prstGeom prst="upDownArrow">
            <a:avLst>
              <a:gd name="adj1" fmla="val 50000"/>
              <a:gd name="adj2" fmla="val 51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3360" y="6629400"/>
            <a:ext cx="35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es config.                     Master conf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979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3080" y="228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6172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200" y="61866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54:05Z</dcterms:created>
  <dc:creator>Sheldon  Mckay</dc:creator>
  <dc:description/>
  <dc:language>en-US</dc:language>
  <cp:lastModifiedBy>GMOD / NESCent</cp:lastModifiedBy>
  <dcterms:modified xsi:type="dcterms:W3CDTF">2009-06-06T20:44:02Z</dcterms:modified>
  <cp:revision>17</cp:revision>
  <dc:subject/>
  <dc:title>PowerPoint Presentation</dc:title>
</cp:coreProperties>
</file>